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8F1-4140-4E4C-8C89-CA5177FF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312-FB9A-45C5-B807-FCEFD906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00C-FD3D-428D-AD95-D5149370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872-5F36-465E-8878-63592579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916-E287-4B80-B289-C59403FD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6AA-6F34-4C44-BB12-F0AD4D44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08E-CBAE-450A-AF22-C20C7574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F4A-DB21-4569-B85C-9B01B65E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6D9-EAE1-4459-9489-16BA83F0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FF8-8CC0-4088-BF86-E737FC3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44D-85EF-43F4-835F-675A6DB8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97A-1B19-4BB2-9F35-B6AAF199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0DCD-AFD8-4B23-ACB1-2B7675F7C7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-physical and socio-economic bench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keholder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oeconomic and biophysical bench marks from RC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er to peer vis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ion sites on selected farmers land and farming land sc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udio and vid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sters, 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isit to successful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dio and news paper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hibitions and exp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e new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thiopian Agricultural Portal(EAP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ith wh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T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earch cen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GIAR (ICRAF, ILR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partners (MoA, BoA, NGO and civic societies)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frica  is rising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oil degradation status and manag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Vegetation cover and diversity (spatial distribu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water availability(Irrigation, ponds, poatble water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eed sources and availabilit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ivestock resources and produ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mproved crop varieties (fodder, fruit, legume, vegetables, cereal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ersity and level of intensif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isting infrastructure (FTC, road, market, telecommunication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?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920" y="7617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ocioeconomic Bench mark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velihood status (vulnerability, food secur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ome sources ( on farm and off f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use hold size and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ucational sta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ailability of lab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operatives (saving and credit, consumer associations, multipurpose) and local institu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vel of ecological knowledge and innovative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design and introduce appropriate intervention options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o identify gaps,barriers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pportunities and fill the ga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aling up and out of best local pract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tributes to RC3, 4, 5,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monitoring and eval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12949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icipatory resource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y informant discussion and 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ondary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KT5 softw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E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whom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Regional research institut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participate in the design, implementation and M and E of the project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ocal administr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 Community mobilization and political backstopp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Bureau of Agricul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secondary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ivestock resource development and health agenci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Oromia and Amhar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Cooperatives and microfinance institutio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facilitate access to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LR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 ICRA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ocio economic bench marks ICRAF/Biophysical characterisation and list of existing tec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 knowledge exchange groups (CKEGs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)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Identify, characterise,  capacitate  existing community institutions (formal and informal)- Gender and age based organisat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Development groups (men, women , youth); Farmers association community leaders and e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Establish CKEGs as appropriate Farmers research  extension groups community based breeding scheme (Oromia and South re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share and disseminate knowledge, skill  lessons, opportunities and challe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plan interventio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aling up and out best bet indigenous and exogenous te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introduce demonstrate appropriate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ribution to RC 3, 4, 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09:01Z</dcterms:created>
  <dc:creator>Asrat</dc:creator>
  <dc:description/>
  <dc:language>en-US</dc:language>
  <cp:lastModifiedBy>Asrat</cp:lastModifiedBy>
  <dcterms:modified xsi:type="dcterms:W3CDTF">2013-02-14T05:59:33Z</dcterms:modified>
  <cp:revision>4</cp:revision>
  <dc:subject/>
  <dc:title>Bio-physical and socio-economic benchmarks</dc:title>
</cp:coreProperties>
</file>